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FC50-E40F-4B64-A91B-C4005BABF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your best guess at figuring out the RED side i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using a calculato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.3 + 72.4 + 128.6+153.2 + 28.7= 42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the clos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245-FCCC-4F9A-B3E0-A5016149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D7A-7FFD-4E6D-BF4D-512A8ADA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4A0-0A3E-45DE-9871-CA5A6DE1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E41-82B8-47FC-ABCF-DD644666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AF8-9021-4B1E-B925-710BAC9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EC7-945B-4656-B8CA-ECB83717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694-D03B-4D93-A15F-C75FC36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29E-1AF8-4EA8-A53F-F9F2FDA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FFD-4B64-4AC6-B1C5-ED3A58C6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66E-0ADA-4301-995A-BCB6FE5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2D5-3979-4688-A6CF-A5026A3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3A0-8BA2-408B-A61A-14FD04A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370-DF07-4D97-AA67-6C69B0CC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timate that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best guess at figuring out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i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using a calculator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a piece of paper 1 t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answers on a piece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8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 + 72.4 + 128.6+153.2 + 28.7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2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 is the clos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648320" y="441972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48120" y="4191120"/>
            <a:ext cx="1752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4724280" y="1904760"/>
            <a:ext cx="1371600" cy="2438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72428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814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7242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V="1">
            <a:off x="6095880" y="190476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2666880"/>
            <a:ext cx="23623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343400" y="36576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343400" y="35812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9528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715000" y="3505320"/>
            <a:ext cx="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41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up all your numbers  ignoring 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5638680" y="182880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809880" y="3733920"/>
            <a:ext cx="9144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V="1">
            <a:off x="4572000" y="1752120"/>
            <a:ext cx="106668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2971800" y="2133360"/>
            <a:ext cx="91440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720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769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7200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27428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8195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29:32Z</dcterms:created>
  <dc:creator>administrator</dc:creator>
  <dc:description/>
  <dc:language>en-US</dc:language>
  <cp:lastModifiedBy>RomaK</cp:lastModifiedBy>
  <dcterms:modified xsi:type="dcterms:W3CDTF">2015-09-03T12:28:25Z</dcterms:modified>
  <cp:revision>5</cp:revision>
  <dc:subject/>
  <dc:title>Guestimate that side</dc:title>
</cp:coreProperties>
</file>